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50B-6363-429C-ACBC-77B90E22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4FA-878D-4CCC-B80F-4536451D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BBC-579D-4198-A68A-B1645FC7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0A8-980C-4FA3-8B8A-679260E4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682-B38A-40EA-A615-01D17652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FFE-225C-4423-90BE-C03BB721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911-017F-4971-8C47-E4296FA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2D8-096F-4EA9-A400-A354B873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BEC-D7EC-4D59-ADD9-A5D3CEB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7BD-573A-4609-B32C-6F43F7B3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0D1-0543-47C7-8482-D3FE3821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A3F-4128-44D6-8E7A-6B567D53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D29-CE06-4005-83BF-D6ECF6826383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Fotografier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 Worauf es ankom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findlichkeit (ISO/AS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Hohe Empfindlich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ürzere Belichtung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er mehr Bildrauschen (Körn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Unterschiede bei K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mpakte Digitalkam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leiner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Rauscharme Bilder nur bei geringen ISO 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gitale Spiegelreflexkameras (SL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rößerer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Rauscharme Bilder auch bei höheren ISO-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naloge Kameras (35mm Fil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al für Nachtaufnahmen mit sehr hohen ISO-W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h mit Lamellen im Objekti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ndenzahl gibt Lichtverhältnis zu Objektiv ohne Blendenvorrichtung 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ößte 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h am größ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inste Blenden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inge Tiefenschär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to wirkt 3-dimensional, bekommt Tie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hr Licht, daher kürzere Belichtungszeit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 für Porträts, Hintergrund verschwi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dergrund und Hintergrund scha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schaftsaufna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4280" indent="-13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ensterne: Lichtquellen in der Nacht sternförmig (Stativ verwende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ichtungsz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Abhängig 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l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mpfindlichkeit (I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Zu lange Belichtungs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ild kann verwack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ild wird überbelich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Zeitautomatik ( Einstellung „A“ für „Aperture Priority“) stellt Zeit bei manuell gewählter Blende automatisch 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nnwe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ange Brennw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leiner Bildausschnitt (Zo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ild kann schneller verwack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ichtstärke nimmt ab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..Belichtungszeit sollte trotzdem kürzer sein (Faustregel: höchstens Kehrwert der Brennwei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nalog –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nsor meist kleiner als Film: kleinerer Bildausschnitt bei gleicher Brennweite. Brennweite muss umgerechnet werden (kleinere Brennweite für gleiches Ergebn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atürlicher Blickwink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50mm bei Analogk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k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illige Objektive Schwachpunkt günstiger SLR-Komplettangeb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lende, Verzerrungen und Verdunklung (Vignette) am Bild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Lichtstarke Objektive (besonders große Blende) teu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Großer Zoombe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bjektive meist minderwert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lexi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ixbrennwe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Qualitativ besser bei gleichem Pr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Umständlicher - mehrere Objektive nö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Megapixel-Wahnsi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iele Mega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ur mehr Details, wenn das Bild gestochen scharf ist und nicht raus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ehr Rezeptoren auf dem Sensor: Höheres Bildrau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Rezeptoren kle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sser in ein gutes Objektiv investieren und bei der Kamera das Vorgängermodell mit etwas weniger Megapixel günstig erwer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gleich Analog -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Gebrauchte analoge Spiegelreflexkameras fast geschenk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Grosse Auswahl an Gebrauchtobjektiven. Gut und erschwinglich: lichtstarkes Objektiv mit manuellem Fokus und Fixbrennwe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niger Bildrauschen bei vergleichbarer Empfind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ktisch keine Auslöseverzög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Kosten und Zeitaufwand für Filme und Entwick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 einen Film passen nur wenige Fo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lösung nur durch Optik begren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ändig neue Modelle -&gt; Starker Preisver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slöseverzögerung (auch das Speichern braucht Ze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Gebrauchte Objektive von Analogkameras nur bedingt geeig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ildrauschen bei hoher Empfind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ilder sofort verfügbar. Experimentieren leichter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Keine zwingenden  laufenden Kosten. Ausarbeitung einzelner Bilder nur bei Bedar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Bildbearbeitungsfunktionen z.T. bereits in der Kam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8:55:38Z</dcterms:created>
  <dc:creator>Oliver Mochmann</dc:creator>
  <dc:description/>
  <dc:language>en-US</dc:language>
  <cp:lastModifiedBy>Klingenberg</cp:lastModifiedBy>
  <dcterms:modified xsi:type="dcterms:W3CDTF">2011-04-20T19:27:54Z</dcterms:modified>
  <cp:revision>7</cp:revision>
  <dc:subject/>
  <dc:title>Fotografieren  Worauf es ankommt</dc:title>
</cp:coreProperties>
</file>